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708-E640-40DE-9A99-F95968A5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C08-CCDA-4B9C-A5FA-CD9FC430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A96-8A2F-466F-BDFE-741775D8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750-3599-4503-9638-DC01229F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2E1-AB1C-4E47-AC29-9EC9F687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00D7-0268-4747-A29C-B1A7CFA4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356-5363-4A4C-8C28-727E0C02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032-2270-41CB-9FC2-DC197566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1AC-08B2-416A-B2C5-D33A4198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9C0-A846-4441-BCF6-F09FA2C9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58D-BACB-434A-828C-A434705A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D27-82A2-4216-8881-BED0BBA0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12DC-AC3B-4B79-8565-C9A1BEA8A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imh.nih.gov/health/publications/suicide-in-the-us-statistics-and-prevention/index.shtml" TargetMode="External"/><Relationship Id="rId2" Type="http://schemas.openxmlformats.org/officeDocument/2006/relationships/hyperlink" Target="http://www.bgiok.org.uk/being_gay/being_gay_main.html" TargetMode="External"/><Relationship Id="rId3" Type="http://schemas.openxmlformats.org/officeDocument/2006/relationships/hyperlink" Target="http://dictionary.reference.com/browse/love" TargetMode="External"/><Relationship Id="rId4" Type="http://schemas.openxmlformats.org/officeDocument/2006/relationships/hyperlink" Target="http://www.searchquotes.com/search/Hopes_And_Dreams/" TargetMode="External"/><Relationship Id="rId5" Type="http://schemas.openxmlformats.org/officeDocument/2006/relationships/hyperlink" Target="http://www.webmd.com/depression/default.htm" TargetMode="Externa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sons to L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smine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ccess vs.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difficult staying on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ying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lso found it hard to calmly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’m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’m going to get out of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realized how overlooked depress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managed to not have a panic att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N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t affects my future: This whole project affects me and my future because I can’t graduate without do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ill I take away: The knowledge of everything I’ve spent weeks researching, writing about, and presenting. Also I am building presentation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Suicide in the U.S.: Statistics and Prevention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NIMH Â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2 Sept. 2012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imh.nih.gov/health/publications/suicide-in-the-us-statistics-and-prevention/index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Being Gay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BGIOK 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2 Sept. 2012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giok.org.uk/being_gay/being_gay_mai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Love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ictionary.co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Dictionary.com, n.d. Web. 12 Sept. 2012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dictionary.reference.com/browse/l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Hopes And Dreams Quotes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Hopes And Dreams Quot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2 Sept. 2012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earchquotes.com/search/Hopes_And_Dream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Depression Center: Symptoms, Causes, Medications, and Therapies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WebM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WebMD, n.d. Web. 12 Sept. 2012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webmd.com/depression/defaul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Depression Center: Symptoms, Causes, Medications, and Therapies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WebM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WebMD, n.d. Web. 12 Sept. 2012.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webmd.com/depression/defaul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Taking ADvantageMe, Myself and I: Self-Esteem and AdvertisingPart One of a Three Part Series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, Myself and I: Self-Esteem and Advertis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2 Sept. 2012. &lt;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public.wsu.edu/~taflinge/esteem.htm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Increase Motivation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ickTheB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2 Sept. 2012. &lt;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pickthebrain.com/blog/21-proven-motivation-tactics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Teen Drug Abuse Health Effects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een Drug Abuse Health Effec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2 Sept. 2012. &lt;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teendrugabuse.us/teendruguse.htm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Teen Pregnancy."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een, Teenage Pregnanc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2 Sept. 2012. &lt;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teenpregnancy.com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Google Images."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Google Imag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5 Apr. 20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ayo Clini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Mayo Foundation for Medical Education and Research, n.d. Web. 15 Apr. 20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Depression Support Help | Providing Quality Treatment and Therapy for Depression."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epression Support Help R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N.p., n.d. Web. 15 Apr. 20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py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esentation has been prepared under the fair use exemption of the US Copyright Law and is restricted from further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ecame interested in this topic because I noticed that many people have little to no motivation in life. Teenagers since we find it hard to stay motiv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iving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should people decide to live instead of choosing to d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sis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can be less empty and meaningless if you have a reason to keep going in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 homosexuality occurs in the animal kingdom so how could it not be natural? There is a gay penguin couple named Roy and Silo at a Zoo in 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of every 4 people suffer from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 are almost 4x more likely to commit suicide than 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th leading cause of death in males (2007) and 15th in females(200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reated a presentation that would discuss a few of the most important parts of my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aught a counseling group on depression, the leading cause of suicid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it impact 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enlightens people on how serious suicide is. Depression is a mental illness and should be taken seri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358164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most part I did all of it on my own however, my mentor Mr. Shipley made sure I got my work done and helped me when I was stumped on something and kept me motiv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nect paper and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mpletely relate because my product was a presentation that was discussing the most important information in my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3:25:19Z</dcterms:created>
  <dc:creator>CEC 140</dc:creator>
  <dc:description/>
  <dc:language>en-US</dc:language>
  <cp:lastModifiedBy>CEC 140</cp:lastModifiedBy>
  <dcterms:modified xsi:type="dcterms:W3CDTF">2013-04-17T20:07:31Z</dcterms:modified>
  <cp:revision>12</cp:revision>
  <dc:subject/>
  <dc:title>Reasons to Live</dc:title>
</cp:coreProperties>
</file>